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1AD-C17B-4C47-A382-F4466EFA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C91-F0E3-4EB4-AE54-2B35310C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B44-B69F-44C7-8163-993E9F72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5FD-0BD4-48AB-90AB-900E663D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3A8-6012-4D8E-A015-1098CF59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527-38CC-46DA-BDA0-B1508D26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F24-7683-47F9-BBE0-48D1BF40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267-0D23-4D9F-8D10-C8B829A2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632-6923-4928-9C90-452DF796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A68-79B1-4A23-ACC0-700C4355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A52-B576-4F27-AEA1-13241FDB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F19-B4D5-4D02-AA94-01460D31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BC9B-7A4D-4C48-AFDD-D289D5641B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inematography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the camera to create a world that we perceive on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keyhole hot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ghting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shots are lit affects how we perceiv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ing ratios:  hard/high key, soft/low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point system:  keylight, fill light, back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NOT lit is an important aspect of lighting (just as offscreen space is as important as onscreen spa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occooned by the aliens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looking down the hall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farrow radio city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why are you taking them off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Production Value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erm that describes the number of people and amount of resources expended on creating a fil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camera crew at work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ypes of Lenses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erture:  an iris that limits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al length:  wide, narrow angle, z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lenses are employed for different focal lengths (prime lenses, zoom len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th of field:  what planes are in fo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bread and wine with witches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polanski framing shot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minnie in the fisheye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phone booth claustro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long shot down the street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ram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ect ratio (ratio of width to he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ks (placed over aperture to change the shape of the fr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ition effects (iris-o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aming and POV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niscient POV (most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-character POV (can also rot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P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parody oft he social entrance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ecs legs and feet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angle shot below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ot Dur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-motion emphasizes the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-motion is usually fun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take (film permits 10 minutes, but this can be extended) creates feeling of real time and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ree Basic Shot Length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up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um shot (typic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radations of these th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e., XCS, XLS, M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inematography is a languag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ed by certain convention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restricted by these convention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ing and complementing the film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other formal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ecs outtake2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confusion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minnie and roman legs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ot Dep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ep-space 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ep-focus cinemat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le of thi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ey lets make love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r hill office through door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lighting2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era Angle/Heigh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-level shot (from typical PO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angle shot (from overhe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angle (from bel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tch angle (til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rial view (from above – long sho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rom below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looking up at roman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all closet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minnie in the fisheye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raw flesh reflection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threshold shot through party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dmiring the LR 1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era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st with lens movements (earli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t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y or tracking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om shot (a camera eff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ne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held or steadicam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living room 2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long shot LR to K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utch hallway shadow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pecial Effec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-camera (as in transition effe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cal (staged), including day-for-night, split screen, blow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/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day for night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hot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up: the camera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position for a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:  one uninterrupted run of the cam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:  the number of times a shot must be repeated (think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two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isual themes in the fil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sholds – doors,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estic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ed windows/enclo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utch rosemary kitchen window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rosemary in window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all closet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knifing the package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pack your bags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bread and wine with witches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phone booth claustro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pill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amera peopl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inematogra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st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ra operator and assistant camera operators 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ians: 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ffer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 boy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ip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amera over bed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ilm stocks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uges of film (8 mm – 70mm) – wid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of film (fast, slow) –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inines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-and-wh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tape vs. movie film (not in the Barsam book, but importan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6:31:20Z</dcterms:created>
  <dc:creator>abc1234</dc:creator>
  <dc:description/>
  <dc:language>en-US</dc:language>
  <cp:lastModifiedBy>Robin Murray</cp:lastModifiedBy>
  <dcterms:modified xsi:type="dcterms:W3CDTF">2011-10-31T19:36:53Z</dcterms:modified>
  <cp:revision>4</cp:revision>
  <dc:subject/>
  <dc:title>Cinematography </dc:title>
</cp:coreProperties>
</file>